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761-D759-4401-8ACA-A279818E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879-2462-4BFC-8A65-3EB95F3D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0F1-D35A-4A47-B8B8-A9868B06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64EF-D49D-4282-BE7D-3C133CFB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A2A-D3BC-4F49-8D62-ECCB3F27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50B-423C-4A49-A614-1E6ADB56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5297-9A57-4110-A0E3-C218C56B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EE4E-3D94-4770-9787-7A5C3734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FF41-9E75-4146-9157-EA8E86C6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138C-9B39-43D3-BBDC-6BE57020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B64E-E75C-4743-B5B1-0E9DD464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64FE-59D6-4A3D-8C75-84A22D05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ABEE-E0EB-42F0-B7C7-FE97DA617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hyperlink" Target="http://es.wikipedia.org/wiki/Anexo:Galer&#237;a_de_banderas_de_estados_soberanos" TargetMode="External"/><Relationship Id="rId4" Type="http://schemas.openxmlformats.org/officeDocument/2006/relationships/hyperlink" Target="http://es.wikipedia.org/wiki/Escudo_(her&#225;ldica)" TargetMode="External"/><Relationship Id="rId5" Type="http://schemas.openxmlformats.org/officeDocument/2006/relationships/hyperlink" Target="http://es.wikipedia.org/wiki/Escudo_(her&#225;ldica)" TargetMode="External"/><Relationship Id="rId6" Type="http://schemas.openxmlformats.org/officeDocument/2006/relationships/hyperlink" Target="http://es.wikipedia.org/wiki/Escudo_(her&#225;ldica)" TargetMode="Externa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s.wikipedia.org/w/index.php?title=Color_nacional&amp;action=edit&amp;redlink=1" TargetMode="External"/><Relationship Id="rId3" Type="http://schemas.openxmlformats.org/officeDocument/2006/relationships/hyperlink" Target="http://es.wikipedia.org/w/index.php?title=Color_nacional&amp;action=edit&amp;redlink=1" TargetMode="External"/><Relationship Id="rId4" Type="http://schemas.openxmlformats.org/officeDocument/2006/relationships/hyperlink" Target="http://es.wikipedia.org/w/index.php?title=Flor_Nacional&amp;action=edit&amp;redlink=1" TargetMode="External"/><Relationship Id="rId5" Type="http://schemas.openxmlformats.org/officeDocument/2006/relationships/hyperlink" Target="http://es.wikipedia.org/wiki/Animales_emblem&#225;ticos_de_los_pa&#237;ses" TargetMode="External"/><Relationship Id="rId6" Type="http://schemas.openxmlformats.org/officeDocument/2006/relationships/hyperlink" Target="http://es.wikipedia.org/wiki/Plato_nacional" TargetMode="External"/><Relationship Id="rId7" Type="http://schemas.openxmlformats.org/officeDocument/2006/relationships/hyperlink" Target="http://es.wikipedia.org/w/index.php?title=Objeto_nacional&amp;action=edit&amp;redlink=1" TargetMode="External"/><Relationship Id="rId8" Type="http://schemas.openxmlformats.org/officeDocument/2006/relationships/hyperlink" Target="http://es.wikipedia.org/w/index.php?title=Objeto_nacional&amp;action=edit&amp;redlink=1" TargetMode="External"/><Relationship Id="rId9" Type="http://schemas.openxmlformats.org/officeDocument/2006/relationships/hyperlink" Target="http://es.wikipedia.org/w/index.php?title=Territorio_nacional&amp;action=edit&amp;redlink=1" TargetMode="External"/><Relationship Id="rId10" Type="http://schemas.openxmlformats.org/officeDocument/2006/relationships/hyperlink" Target="http://es.wikipedia.org/w/index.php?title=Territorio_nacional&amp;action=edit&amp;redlink=1" TargetMode="External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Lic. Francisco del R. S.</a:t>
            </a:r>
            <a:br>
              <a:rPr sz="4400"/>
            </a:b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11/02/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ema: los símbolos pat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Números particip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*18      *23     *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*32     *33     *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474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604000" cy="6193080"/>
          </a:xfrm>
          <a:prstGeom prst="rect">
            <a:avLst/>
          </a:prstGeom>
          <a:ln w="0">
            <a:noFill/>
          </a:ln>
        </p:spPr>
      </p:pic>
    </p:spTree>
  </p:cSld>
  <p:transition advTm="170000"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 rot="1207800">
            <a:off x="5909760" y="4161960"/>
            <a:ext cx="2664000" cy="2211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Escudo Dominicano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escudo de la República Dominicana es el emblema que, solo o junto a la bandera, representa el estado libre, independiente y soberano de nuestro paí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98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Origen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de el inicio de la República figura en los documentos oficiales expedidosen 1844 por la Junta Central Gubernamental, pero es en la primera Constitución dominicana, votada el 6 de noviembre del mismo año, en la ciudad de San Cristóbal, donde por primera vez se da una versión oficial del escudo de arm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han registrado unas diecinueve versiones del escudo hasta llegar al actual, establecido durante el gobierno del Doctor Adolfo A. Nouel, en el año 191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0">
    <p:comb dir="horz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Himno 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canto a la Patria. Es una composición poético musical que tiene por objeto homenaje a los ideales de libertad de nuestro pueblo. En él se hace una relación de los hechos que con su sacrificio contribuyeron a que hoy tengamos una Patria libre y sobera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0">
    <p:strips dir="r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5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letras escritas por Emilio Prud’ Homme y la música compuesta por José Re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uestra constitución o carta magna consagra que el Himno Nacional es: La composición musical establecida por la ley No. 700 del 30 de mayo de 1934, y es invariable, único y et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e interpretado por primera en la ciudad Capital de Santo Domingo el 17 de Agosto de 1983, con motivo del vigésimo aniversario de la R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ffff66"/>
                </a:solidFill>
                <a:latin typeface="Comic Sans MS"/>
              </a:rPr>
              <a:t>Los estudiante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0">
    <p:comb dir="horz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mo podemos observar, los estudiantes también son un símbolo patri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omos uno, de esos símbolos tan importante dentro de los rengl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0">
    <p:cover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Opinión pers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uestra opinión.…es que, los símbolos patrios son muy necesario, a diario vemos y convivimos con los símbolo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n cada escuela deberían incrustar, un poco mas los símbolos y nuestra Republica Dominic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Conclus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 esto concluimos, por que existen muchos símbolos patrios, pero si nos llevamos de esto, este trabajo no tendría f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enemos que respetar los símbolos patrios, por que eso va dentro de nuestros valores familiar y educativo….desde los mas importante hasta el k menos valor tiene -------( ósea tod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Introduc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e trabajo de los símbolos patrios, trata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*¿Qué son los símbolos patri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*¿Cuáles son los símbolos patri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*¿Cuál es su importa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ntre otras cosas que, verán a continuación, basado en los símbolos patrio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0"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98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Alba Castil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es damos las gracias! Por su gran motivación hacia, elaborar estas clases tan creativas y maravillosas….Donde hemos comprobado que estudiamos mas y aprendemos lo suficiente..nuevamente les damos mil 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0">
    <p:wedg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68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768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0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2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Argumen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 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ímbolos patri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 son aquéllos que representan a estados, naciones y países, y así son reconocidos por otros estados. Generalmente estos símbolos se formulan a partir de representaciones visuales o verbales que pretenden difundir los valores de la historia o de los personajes célebres del paí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unque en su mayoría los más usados son la bandera nacional y el escudo, los símbolos nacionales pueden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a bandera nacion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 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scudo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de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rma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 del país o la dinastía reinante en el caso de los países con sistemas monárqu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adre o fundador de la n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 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lor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nacion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ronomía nacional ó específicamente plato/bebida nac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La Flor nacion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l animal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lato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 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bjeto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 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territorio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 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himno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odo lo mencionado anterior mente, son símbolos de la patri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 estos símbolos hay algunos que son mas importantes que otros pero todos don importante y como dominicanos que somos debemos de, saber cuales son nuestros símbolos patrios, por que muchos tienen el concepto, de que solo es la bandera y el escu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0">
    <p:wedg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70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Desarrol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 bandera dominicana fue elaborada por Concepción Bona y por María de Jesús y Benítez. Se izó por primera vez la noche del 27 de febrero de 1844, el día de la independencia. Nuestra bandera esta compuesta por cuadros azules y rojos atravesados por una cruz blanca que lleva en el centro el escudo nacion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0">
    <p:cover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a color tiene un significado; el rojo representa la sangre derramada por nuestros patriotas para obtener la independencia, el azul representa el cielo y la gloria, y el blanco la paz que disfrutamos gracias a la libert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Bandera es el más sublime símbolo de la libertad y la soberanía nacional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0">
    <p:wedg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8:05:37Z</dcterms:created>
  <dc:creator>Yorkin</dc:creator>
  <dc:description/>
  <dc:language>en-US</dc:language>
  <cp:lastModifiedBy>Yorkin</cp:lastModifiedBy>
  <dcterms:modified xsi:type="dcterms:W3CDTF">2011-02-11T22:23:46Z</dcterms:modified>
  <cp:revision>2</cp:revision>
  <dc:subject/>
  <dc:title>Lic. Francisco del R. S.</dc:title>
</cp:coreProperties>
</file>